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DD8D-65E5-4CDB-A96A-D78AF91E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E74-3E68-49FE-A8ED-37368E83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2FC2-D659-434F-9180-9075B3D7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E8C-4D2E-4F13-AE96-E3C66323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3579-3C22-47AA-A47C-E179BBAE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900B-3C2A-4341-B268-56B9CB61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136E-032A-4ED1-B3FE-BF9D4F73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12A8-DDA0-424F-B469-2FA3839E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41B4-AF55-4C7C-887A-45F57DF3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715E-26CA-4699-8D1E-0E02AD90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3DCC-C8F9-483B-A281-621718D9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AC4-AED7-4680-ACD5-32360C5E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9B42-08DA-4B8C-B3A9-71C201ED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8E4F-519E-4239-87B3-66248807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30A9-64D3-440B-950C-383D82F6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A25A-DA6B-483D-9A3F-B49668A8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53F8-B79D-4A24-8D94-29E25084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A5AE-DE5B-4066-8D33-8187CEC4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A09C-263D-43D9-8789-340709D1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4297-FBCB-4B6C-A7B6-C3E177FF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2F1-2E42-41D4-8B37-F5E2C867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E359-F729-4CC8-B964-DC8C75CA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9EDD-9882-4C09-BC7C-38D5F710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54E8-DF7D-4D95-849B-6429B997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b0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EBC9-6E67-4CE3-A77C-95256A13A2C6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9640" y="645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b0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6BA9-057D-40EA-8DBE-34EB644657A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645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b0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8:01Z</dcterms:modified>
  <cp:revision>43</cp:revision>
  <dc:subject/>
  <dc:title>幻灯片 1</dc:title>
</cp:coreProperties>
</file>